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D3B-C3A5-404D-8928-68340B74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3FD-6809-4187-8679-D3BB4F9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AA1-519F-4E4A-BAB0-A7D05840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38D-8FF0-4B06-88C6-EF77D39A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6E2E-063D-422A-B85F-95A701C5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5DE-B7B6-4C7F-9D17-C6259866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02E-A74D-4B1F-AE2F-0F16091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70BA-E6D9-48AC-904D-5C8F139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88B-DFDB-4821-AFB0-EC691CE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4BE9-9EEF-4DC4-BD28-5097519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9D60-228D-409B-81B3-E514124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0E-9180-41F5-A437-A3D14F0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D0A-CA67-49F0-925E-317B045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BCBE-318F-460E-8F83-59FEDD5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0B2E-32DF-4E97-B433-A96B586E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CBC6-CD58-492A-96A4-6FC73FFA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391D-0EEB-4FAD-B9A1-4B02A090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48E8B-6686-46FB-919D-1225F49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43BFB-62E1-4518-8D4C-C7137E2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405FA-07EE-4DEF-BE49-EA39451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87FEB-07CF-4605-8D1E-CB641FD8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DF56F-4168-4393-976A-A9DBD3F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717-E489-4138-8B75-B949744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514B9-864A-4A79-B620-9111C2A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427D0-0132-4C58-93A0-AC1E8FE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24053-3C04-4FC3-8A11-107221E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4E55-229E-408B-9096-37A9DE9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EC886-777D-4310-A602-0A0AA04E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BFB64-52F2-4989-9A6D-BBDE2F90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50F07-90C3-44D9-8BC4-C2ED749F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C9C4-F9CC-45E1-B227-380D87A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ECF2-5922-4BCD-8633-5D32D6A2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15AC-2A34-4177-B102-7F38E94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7F6-25F7-4942-BF3B-E5FAA3A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11EE-144D-4882-B53B-0A04435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0408-C0F9-4542-BFC2-E261A34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66E8-8FA3-4787-86C8-A3E9364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89D9-60DB-44D4-A5B3-4AAFB96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7FE2-F341-46B8-85EB-437EFB6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F60E-F4C0-41F6-8290-743EF24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CA15-D1B6-46F9-BFCB-4B60EB63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1BDE-A43B-488B-8783-C89FC84D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109C-74A8-42B8-8D29-B23FF735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9D2A3-A598-4F81-A703-6A668614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BA2-0C55-4ABB-88BA-CACB168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2C1C6-C348-4FDB-8D47-F7BDB60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814F9-73CE-424C-86F3-68576113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439DD-E36D-4CDA-BB28-524A13A0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7F18C-E17A-45B3-BB46-A371797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A3B19-BAF9-4327-A0A4-61A0BFF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AD66E-380D-4D6A-9597-1294BDF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CCFE9-E456-4FC2-8ACA-06B128D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438D4-C6D7-4D81-AC5C-4B3A8E5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75035-8FDC-4CBC-BCC8-E9803F86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8FE5E-8203-4A30-9BB4-B2B2BFAB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9F2-AAF6-423E-A67F-13A3BCB3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484AB-A1AD-4951-8426-F97F877E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B841D-1956-4EFE-8B6F-328568A4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5A19E-1F2F-4F23-9792-E78E61D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9EB64-145F-497A-AB0B-059EC77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00D91-F361-4E88-81C9-C42FB0DF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1AD52-8200-4A23-AD67-79A1F26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C7FCA-725E-41FD-80D4-3CCECFA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531FC-F822-4121-8CE9-683EA78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F86DC-DBB9-4585-BCC8-4ADC542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08320-37BB-4149-8307-88155BA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57A-C13A-479F-808B-766076B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14C4B-4F12-4EF2-B77E-C9314BF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D66D2-F7B4-480F-BD6C-C5DFA326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8DD71-2CF9-4558-ADEC-BE1234C7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8EE45-3EDC-4706-8B6A-B604731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9C032-1E9E-45C8-96F2-7DD3C95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B354C-EFB9-4C7C-AC60-ED989B7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6E7B7-54BA-4D11-BE19-0FF7DD5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E5AE7-F09B-4D11-882E-318D784E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78F38-9AC9-47B5-AD85-2B8F26F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E164A-B1B5-447C-BAA6-1C6403D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987-AA5D-4F21-ADA3-F44805E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39861-6136-4087-B3EF-28E90C7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69073-B939-4D29-9A70-4D8F562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0E711-293D-4BA6-8955-B25BA47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A9A39-D80A-4EA1-B76A-C0C7E92E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F7386-95F8-4A1F-95AD-5C8B4F0A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FA7-DB4D-4559-82C2-5561EC3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AD651-0CC2-4623-ADCA-CC66B1490D74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889E2-5875-44F7-B464-344777B702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A1281-05A9-48AD-B0F3-15F65C3725B3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1D6A0-CC79-4950-8C97-9F368337587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178CF-F8D6-4C19-B411-AE038334D7A3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61FB8-8644-4D18-BC62-F65E4F7D4D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AB21A-D380-4D85-AF70-E1A229C27748}" type="datetime"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8BF68-28FA-4B53-8018-F6CEC575CF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2E7C1-871D-4CED-B748-718929FD3F6A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F3055-01A7-4081-9A7B-9A5A7472FA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5931D-3B63-4610-A708-7B10C520642B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6C6F3-A791-475F-A759-2E01FF4F6F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6238A-ED69-4A5E-A7E0-EDF2586F85DB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B063A-6345-42BE-A2C1-423BAF0B38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aldwick.k12.nj.us/waldwick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506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6</a:t>
            </a:r>
            <a:r>
              <a:rPr b="1" lang="en-US" sz="4300" spc="-1" strike="noStrike" baseline="30000">
                <a:solidFill>
                  <a:srgbClr val="b13f9a"/>
                </a:solidFill>
                <a:latin typeface="Century Schoolbook"/>
              </a:rPr>
              <a:t>TH</a:t>
            </a: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 GRADE </a:t>
            </a: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SCIENCE FAIR:</a:t>
            </a: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RESEARCHING WITH </a:t>
            </a:r>
            <a:br>
              <a:rPr sz="4300"/>
            </a:br>
            <a:r>
              <a:rPr b="1" lang="en-US" sz="4300" spc="-1" strike="noStrike" u="sng">
                <a:solidFill>
                  <a:srgbClr val="b13f9a"/>
                </a:solidFill>
                <a:uFillTx/>
                <a:latin typeface="Century Schoolbook"/>
              </a:rPr>
              <a:t>ONLINE DATABASES</a:t>
            </a:r>
            <a:endParaRPr b="0" lang="en-US" sz="4300" spc="-1" strike="noStrike">
              <a:solidFill>
                <a:srgbClr val="b13f9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ONLINE DATABASE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line resources that contai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yclopedia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gazine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ws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n-Fiction Book Chap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V &amp; Radio Transcrip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 Mo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WALDWICK SCHOOL LIBRARY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ts On F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ale Virtual Reference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BSCO Ho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are accessible at th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entury Schoolbook"/>
                <a:hlinkClick r:id="rId1"/>
              </a:rPr>
              <a:t>Waldwick Media Center webpag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support KEYWORD SEARCH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REQUIRES SIGNING-IN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Username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:  waldwick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Password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:  warrior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PLAN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a good articl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py down the citation information of  the articl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04:22Z</dcterms:created>
  <dc:creator>Paul Hummel</dc:creator>
  <dc:description/>
  <dc:language>en-US</dc:language>
  <cp:lastModifiedBy>Paul Hummel</cp:lastModifiedBy>
  <dcterms:modified xsi:type="dcterms:W3CDTF">2012-02-02T23:35:53Z</dcterms:modified>
  <cp:revision>5</cp:revision>
  <dc:subject/>
  <dc:title>6TH Grade  Science Fair:  Researching with  Online databases</dc:title>
</cp:coreProperties>
</file>